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7A7-3556-4971-A715-5241051C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4F8-1DB7-425D-8AB3-F3A9ED65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A08-1494-483E-A0AD-CAE929BD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C89-E41B-4732-B666-DA0E4198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9256-F7B4-4111-8A08-64996A43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8A77-90DE-4CD4-9E27-5922FDD7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891A-6C7E-486B-AAC1-A56DB7BC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7280-D192-48EE-9485-54001AA6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3B4F-1EE6-45CB-9C9E-CBC26875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B012-41C3-4990-87CB-6A7C6664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5274-942A-44BA-84DE-C505371E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805-B106-4ABC-BF84-C447517E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96DA-F357-4621-B926-EB5DD2FD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2B7F-9CAA-4616-8306-C31BB2F3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9E8C-ED05-46F0-B4D1-D6B00E2F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E473-D1B4-429C-9FBF-5D1D490B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B937-7975-486E-9DBC-1A5326E9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F85-F618-4B38-9672-7DC994C0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6CD-E977-4454-949D-ECD9A08A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BD3-174B-4A92-A426-AF59FDFF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C4F-76E1-4CD9-86F8-A921C97A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599-00CE-4034-A840-24137BE7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3DD-5941-4D1E-94E7-ED2E6106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8B8-7926-4E44-AB4B-897169E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95FA-39D2-4B66-A7F6-1E01EB4FF2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98BB-1000-44D3-B578-C67668A152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-Freshmen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discus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n order to repair youre damaged motorcycle which is all banged in shell have to do a lot of repain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uld of swam to that reef but its to stormy to try t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:touch::audible: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bbly:stable::fuzzy: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ssignment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4:35:39Z</dcterms:created>
  <dc:creator>Angie</dc:creator>
  <dc:description/>
  <dc:language>en-US</dc:language>
  <cp:lastModifiedBy>Angie McCall</cp:lastModifiedBy>
  <dcterms:modified xsi:type="dcterms:W3CDTF">2011-08-29T19:39:55Z</dcterms:modified>
  <cp:revision>3</cp:revision>
  <dc:subject/>
  <dc:title>English-Freshmen</dc:title>
</cp:coreProperties>
</file>